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960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983400"/>
            <a:ext cx="84960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480" y="11250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9834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480" y="39834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112500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9600" y="112500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98340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98340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9600" y="398340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AE2F-EEEF-4D88-BF29-B88AF089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5DD9-F8B4-4413-B2BC-074DA873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ED26-4E3A-40F3-AF0D-F44F9ABF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41457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125000"/>
            <a:ext cx="41457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C216-80C4-4D5C-8BAE-83A027F9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C821-5EC2-492F-A066-5A79EF74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24000" y="274680"/>
            <a:ext cx="84960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F455-CCA2-47F3-90AA-BAA30DDE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480" y="1125000"/>
            <a:ext cx="41457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24000" y="39834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BB6F-D5CC-42B0-9870-BA3E38C1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41457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480" y="11250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7480" y="39834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0760-66A5-4120-975D-FDD55DC5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480" y="11250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24000" y="3983400"/>
            <a:ext cx="84960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FC8-71B5-40BB-B37F-6BA32DA3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960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00" y="3983400"/>
            <a:ext cx="84960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3D6F-C6DE-483C-843D-A98E5D6F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7480" y="11250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24000" y="39834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7480" y="39834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9FF6-3403-47F4-860D-E42854831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96800" y="112500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69600" y="112500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24000" y="398340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96800" y="398340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69600" y="398340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CD4E-31C2-4373-B7F0-0B507742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41457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480" y="1125000"/>
            <a:ext cx="41457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24000" y="274680"/>
            <a:ext cx="84960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1125000"/>
            <a:ext cx="41457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9834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41457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11250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480" y="39834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480" y="11250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983400"/>
            <a:ext cx="84960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5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10E9-D7A3-4A28-A05F-7834420FE9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63640" y="2421000"/>
            <a:ext cx="626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stance and Midpoi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5734080"/>
            <a:ext cx="2282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y this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midpoint, M of the line segment with endpoints A (-2, -3) and B(4,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(1,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length of the line seg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36 =  11.66 . . 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 a circ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496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points of the diametre of a circle are located at (-7,5) and (11, 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length of the radius of this cir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rm-u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iangle has vertic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7, 16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, 4),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, –4). Prove that the triangle is right-ang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:  (Draw the triangle and find slop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nd the length of the horizontal line PR and the vertical line Q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9760" y="1666800"/>
            <a:ext cx="5213160" cy="4740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119240" y="54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5440" y="4483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90640" y="54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1628640"/>
            <a:ext cx="244764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st the coordinates of P, Q, and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 (1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 (5,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 (5,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 = 5 – 1 = 4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(subtract the x coordinates for a horizontal 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R = 4 – 1 = 3 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(subtract the y coordinates for a vertical 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nd the distance from P to Q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9760" y="1666800"/>
            <a:ext cx="5213160" cy="4740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19240" y="54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5440" y="4483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90640" y="54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64000" y="1557360"/>
            <a:ext cx="3024360" cy="494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length of QR and P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se lengths and the Pythagorean Theorem, calculate the length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Q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Q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Q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7812000" y="2714760"/>
                <a:ext cx="5050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364000" y="3213000"/>
                <a:ext cx="8733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ba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804000" y="3141720"/>
                <a:ext cx="9367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</m:e>
                    </m:ba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508720" y="3789360"/>
                <a:ext cx="28083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lve for the length of PQ, and show the general formula side by sid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9760" y="1666800"/>
            <a:ext cx="5213160" cy="4740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19240" y="54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5440" y="4483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90640" y="54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413000"/>
            <a:ext cx="2879640" cy="32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Q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5 – 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4 -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Q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Q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Q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84720" y="1413000"/>
            <a:ext cx="288000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Q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 for d, 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istance formul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obt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203640" y="1413000"/>
                <a:ext cx="28083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084720" y="1413000"/>
                <a:ext cx="28083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300720" y="4076640"/>
                <a:ext cx="22860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nd the length of JK using the distance formul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670720" cy="515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84360" y="587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17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134136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227640" y="1341360"/>
                <a:ext cx="22860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6012000" y="1916280"/>
            <a:ext cx="25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s of J and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 (-3, -5)  and K (5, 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084720" y="2852640"/>
                <a:ext cx="2652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084720" y="3500280"/>
                <a:ext cx="14655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084720" y="4076640"/>
                <a:ext cx="8557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5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24000" y="1989000"/>
            <a:ext cx="8496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iangle has vertic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7, 16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, 4),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, –4). Prove that the triangle is right-angled in a different way than you did in the warm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nd the midpoint of line J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670720" cy="5153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4360" y="587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00720" y="17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2000" y="1484280"/>
            <a:ext cx="259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 the coordinates of J and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 (-3, -5)  and K (5, 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84720" y="2637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midpoint of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6093000"/>
            <a:ext cx="3529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156360" y="3500280"/>
                <a:ext cx="19447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6227640" y="4437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midpoint of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71640" y="6021360"/>
            <a:ext cx="71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43560" y="2133720"/>
            <a:ext cx="0" cy="3959280"/>
          </a:xfrm>
          <a:prstGeom prst="line">
            <a:avLst/>
          </a:prstGeom>
          <a:ln w="38160">
            <a:solidFill>
              <a:srgbClr val="c46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71920" y="4076640"/>
            <a:ext cx="1429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156360" y="5229360"/>
                <a:ext cx="23032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 the midpoint of JK is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670720" cy="5153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4360" y="587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17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28800" y="40338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59280" y="386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1, 3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84720" y="148428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oordinate of the midpoint is foun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084720" y="5516640"/>
                <a:ext cx="25560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300720" y="2349360"/>
                <a:ext cx="16560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6156360" y="2997360"/>
            <a:ext cx="23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oordinate of the midpoint is foun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443640" y="4005360"/>
                <a:ext cx="187344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6012000" y="486900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oper Black"/>
              </a:rPr>
              <a:t>Midpoint Form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14:11:19Z</dcterms:created>
  <dc:creator>J F Alvarez Zafra</dc:creator>
  <dc:description/>
  <dc:language>en-US</dc:language>
  <cp:lastModifiedBy>nbdoe</cp:lastModifiedBy>
  <dcterms:modified xsi:type="dcterms:W3CDTF">2007-10-11T00:41:45Z</dcterms:modified>
  <cp:revision>53</cp:revision>
  <dc:subject>Mathematics</dc:subject>
  <dc:title>Histograms</dc:title>
</cp:coreProperties>
</file>